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C927-AAAC-42A2-A054-4732C4BFBDBC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F44D-69BA-455B-BCA6-DD8B9E0E194A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04A-D526-41FF-ADC4-DFC43AAA3D6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0BCD-BC0C-4D3B-A8D1-332C4EC6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D733-C2DB-44D2-B9D1-07778017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6A14-8674-4961-A0CE-6074A871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B9FC-F5C1-46F8-8932-82DEE3EE5963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0BF1-5BAC-4B16-AEE1-0BBDA79D2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C52C-F496-42C0-AECE-20323717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3DBE-9F48-4C09-9A33-60CFA10FD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B907-BCBA-4827-A62C-765CB303C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D456-7FCA-48A3-8B4E-3E2E71FB0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3E0B-A474-4CC8-AF26-3205DC8A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AF28-4172-4368-AA8B-5226C4E3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5C5C-A748-486A-87EF-336A67859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25CA-DB85-45DA-9C49-DEF9FEAF7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4DF8-F437-41EA-82D1-3B52ECC1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EEDA-7CF6-42FB-9FD9-7C29B368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7347-4AC4-41BC-8AF7-A4B90EC17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8213-6036-4F81-9E9B-876BE551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2FEA-CDA6-45C3-A32C-27BDF9A5A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A231-AA48-47B5-9F1F-B038A7F06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B9CD-A72A-479F-A4AC-A236F267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A610-BB7D-4DF0-9AA0-02BC8AE72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8B65-7ACF-49D6-864F-7DBC91DE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5E1A-468D-4D13-AAA4-DBDEE8991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1C19-D309-4971-9EB7-CD076B17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EDD2-67F0-41F0-837C-301DBA893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C5CF-26FA-4134-B765-D73ECD745BB9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5BA7-AE37-4E3E-8344-5D7A17F52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BA63-A751-483A-A81F-4BA1AB8C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BC70-311A-47BB-B3DE-42BF8419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A5EE-B041-4745-AD1C-AE2D1626D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Days 2010, 29 Nov-2 Dec 2010, Cotonou,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 AfricaRice Science Week and GRiSP-Africa Science Fo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-16 September 2011, Cotonou, Be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3"/>
          <p:cNvSpPr/>
          <p:nvPr/>
        </p:nvSpPr>
        <p:spPr>
          <a:xfrm>
            <a:off x="0" y="2376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ustainable Intensification &amp; Diversification of Rice-based Inland Valle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Ki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Representative for East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rica Rice Center (Africa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tainable Intensification of Cereal-based Farm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9 February 2012, Dar es Salaam,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Users\PKiepe\Pictures\Presentations\inland valley 3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ain-fed Low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IMG_0241"/>
          <p:cNvPicPr/>
          <p:nvPr/>
        </p:nvPicPr>
        <p:blipFill>
          <a:blip r:embed="rId1"/>
          <a:stretch/>
        </p:blipFill>
        <p:spPr>
          <a:xfrm>
            <a:off x="782640" y="914400"/>
            <a:ext cx="7523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Yield Potential of Rice Ecologies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76240" y="1447920"/>
          <a:ext cx="7391520" cy="4267080"/>
        </p:xfrm>
        <a:graphic>
          <a:graphicData uri="http://schemas.openxmlformats.org/drawingml/2006/table">
            <a:tbl>
              <a:tblPr/>
              <a:tblGrid>
                <a:gridCol w="3730680"/>
                <a:gridCol w="1527120"/>
                <a:gridCol w="2133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 Ec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in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rove sw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p water / flo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gated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-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low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up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60320" y="803160"/>
            <a:ext cx="3570480" cy="254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image15"/>
          <p:cNvPicPr/>
          <p:nvPr/>
        </p:nvPicPr>
        <p:blipFill>
          <a:blip r:embed="rId2"/>
          <a:stretch/>
        </p:blipFill>
        <p:spPr>
          <a:xfrm>
            <a:off x="716040" y="3586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irrigation field 3"/>
          <p:cNvPicPr/>
          <p:nvPr/>
        </p:nvPicPr>
        <p:blipFill>
          <a:blip r:embed="rId3"/>
          <a:stretch/>
        </p:blipFill>
        <p:spPr>
          <a:xfrm>
            <a:off x="4724280" y="354348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ega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6032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Up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724280" y="571500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724280" y="803160"/>
            <a:ext cx="3657600" cy="2543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71168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71604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Low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ot All Lowlands Are Sui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85800" y="13716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wetlands should be saved and not developed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uses like cultural ceremonies should contin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biodiversity can be utilized but not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services need to be taken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TG0610 no go area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ultural Ceremonies Should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Importance of Lowlands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vs tradition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wner vs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vs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v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ffect of Climate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frica crop failure due to drought occurs already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and severity of drought expected to worsen with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ecologies are mos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owlands face increased water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ow Labou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labour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ating small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pla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 harv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level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even matur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harvest and post-harves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d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keholde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users (gender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long-term lease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roved Wat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wa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d pad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b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-cat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ate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ow water-u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water productivity of shared wate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125-2585_IMG"/>
          <p:cNvPicPr/>
          <p:nvPr/>
        </p:nvPicPr>
        <p:blipFill>
          <a:blip r:embed="rId1"/>
          <a:stretch/>
        </p:blipFill>
        <p:spPr>
          <a:xfrm>
            <a:off x="5029200" y="2743200"/>
            <a:ext cx="37702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mall-Scale Mech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reparation (one power tiller plows the equivalent of 90 able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eld to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rm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72000" y="2654280"/>
            <a:ext cx="4411800" cy="33084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ortance for Tan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second most important crop in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rice is produced in rain-fed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of rice i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vegetables will decrease undernour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will increase farm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urpose o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2193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hance the productivity and competitiveness of inland valley lowlands through sustainable intensification and diversification of agricultural productivity and product value chain development while conserving land and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ork In Rice Development H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3962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sector employs 20 million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m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s livelihood of 100M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4800600" y="3513240"/>
            <a:ext cx="3505320" cy="26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505320" cy="2343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3048480" y="541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106960" y="548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031720" y="2666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3"/>
          <a:stretch/>
        </p:blipFill>
        <p:spPr>
          <a:xfrm>
            <a:off x="896760" y="35100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2746080" y="5486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Four Main Pi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1219320"/>
            <a:ext cx="81532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Stakehold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yste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ification &amp;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 Rice Development H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219320"/>
            <a:ext cx="8686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brant inland valley communities that resolve constraints and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tial model applicable at national scale to determine agricultural potential an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s that enhance productivity and resourc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cessful adaption by private sector and developmen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26920" y="1371600"/>
            <a:ext cx="80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zania has to step up rice production because the world market ru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lowlands can largely supply enough rice for Tanzania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lowland area will remain intact for traditional and environment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ion of sound water management can make rain-fed lowlands climate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3505320" y="4205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Center of Excellence for Ric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09560" y="685800"/>
            <a:ext cx="7745400" cy="5396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95280" y="1447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ante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World’s most important sta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of more than 3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more than 13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usually grown for the domestic market (only 6% is grown for 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2 countries export rice while only 5 of them dominate worl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4" descr=""/>
          <p:cNvPicPr/>
          <p:nvPr/>
        </p:nvPicPr>
        <p:blipFill>
          <a:blip r:embed="rId1"/>
          <a:stretch/>
        </p:blipFill>
        <p:spPr>
          <a:xfrm>
            <a:off x="938160" y="228600"/>
            <a:ext cx="7367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1295280"/>
          <a:ext cx="7140600" cy="43894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1958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(M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Demand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for many Af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75 demand in Africa higher than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 imported 9.3 Mt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/3 of the worl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of its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demand in Africa is growing fastest in the world (6% per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Constraints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roduction leads to low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ependence on rain-f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use of external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ated varieties &amp; poor see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rai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oli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search and extensio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1:27:07Z</dcterms:created>
  <dc:creator>Raman, R (AfricaRice)</dc:creator>
  <dc:description/>
  <dc:language>en-US</dc:language>
  <cp:lastModifiedBy>PBallantyne</cp:lastModifiedBy>
  <dcterms:modified xsi:type="dcterms:W3CDTF">2012-02-07T05:35:49Z</dcterms:modified>
  <cp:revision>178</cp:revision>
  <dc:subject/>
  <dc:title>Slide 1</dc:title>
</cp:coreProperties>
</file>